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47.png" ContentType="image/png"/>
  <Override PartName="/ppt/media/image10.png" ContentType="image/png"/>
  <Override PartName="/ppt/media/image14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16.png" ContentType="image/png"/>
  <Override PartName="/ppt/media/image4.png" ContentType="image/png"/>
  <Override PartName="/ppt/media/image7.jpeg" ContentType="image/jpeg"/>
  <Override PartName="/ppt/media/image65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2.png" ContentType="image/png"/>
  <Override PartName="/ppt/media/image49.png" ContentType="image/png"/>
  <Override PartName="/ppt/media/image13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7.wmf" ContentType="image/x-wmf"/>
  <Override PartName="/ppt/media/image38.wmf" ContentType="image/x-wmf"/>
  <Override PartName="/ppt/media/image40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4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2E0D-9EFF-4D7D-8362-A386B1AB8C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3642-B845-4260-910D-417633A1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D62E-0A35-4AAB-9EC6-2A2EC3F3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54983-A1F8-44E7-8EFE-AE82E3D5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8E9C-1588-42C9-8262-A2968E7C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72E4F-0712-4BB9-9CE6-753E4C67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DFF1-1F60-4590-BD24-53CD09B5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C33E-3962-4E07-A037-A5C13470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AA6C-0524-4545-8ACC-FB58C453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E7D6E-CE05-491A-99EA-3E413C2F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8893-FACC-455B-AC78-4E03BC8A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0E324-056B-4980-B2CF-A6C2254165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CA4BD-54D4-4D8E-B71E-250772C3B1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AC6BE-0AF5-40C0-A4C0-184635DE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4A77C-FED1-4817-879D-D96C0007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3522E-EC59-463E-A184-C50DFD07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419CE-6572-4AC9-9C0F-868C8B32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88A17-510A-4720-B6E0-54CB6AD2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F5EBD-07CA-4487-A4F2-7F019D5C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CE5E0-9C49-429C-9177-1EA7B7B5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4BEB7-15D9-42C4-B8E2-807E9E8E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E4AC0-8D3E-42A5-8BA9-FDF75765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C4B66-6A74-4F93-97FE-48AC9C89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EDA0E-D6F3-4010-8A65-E8458AA29E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1AB7-E2D2-4761-B28C-C37EE9A0F16D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7A12-F8EA-4716-A06D-B09F19B62CE2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2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2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116A-221A-4192-956D-533D5B8CE8CC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6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7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72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F87D-F924-4585-9C37-69C063D7219D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1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1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9AA2-730D-4B8B-8E58-5C4755D0B7F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5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6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6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6902-8C10-4AE3-B400-AD3D98935D5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1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1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1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3DAB-76CD-4A55-80DF-A15909ACB9CA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5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5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5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5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DC1E-B289-48FA-A193-27317E2B512E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0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0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0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0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1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2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37D0-368C-4291-8A3E-8A6ED7006D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FEDB-73F3-479D-A02D-B93AE086EAE6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4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5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5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5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91DE-0BA4-4E6A-A020-94C09686931B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9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9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9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9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b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b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44C6-3737-4299-946D-480BC8ACF25C}" type="slidenum">
              <a:rPr b="0" lang="en-US" sz="2400" spc="-1" strike="noStrike">
                <a:solidFill>
                  <a:srgbClr val="4b575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7B4A-EB2E-41C4-BD67-BDDF070423D2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7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8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0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C8A1-E11E-44FC-A756-6912CB5FEFE3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3240" y="12600"/>
            <a:ext cx="9140760" cy="6854760"/>
            <a:chOff x="3240" y="12600"/>
            <a:chExt cx="9140760" cy="6854760"/>
          </a:xfrm>
        </p:grpSpPr>
        <p:pic>
          <p:nvPicPr>
            <p:cNvPr id="91" name="Picture 3" descr="12173-SolidWorks-cov"/>
            <p:cNvPicPr/>
            <p:nvPr/>
          </p:nvPicPr>
          <p:blipFill>
            <a:blip r:embed="rId4"/>
            <a:stretch/>
          </p:blipFill>
          <p:spPr>
            <a:xfrm>
              <a:off x="3240" y="1260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6370560" y="6304680"/>
              <a:ext cx="24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9c8e80"/>
                  </a:solidFill>
                  <a:latin typeface="Arial"/>
                </a:rPr>
                <a:t>Image courtesy of National Optical Astronomy Observatory, operated by the Association of Universities for Research in Astronomy, under cooperative agreement with the National Science Foundation.</a:t>
              </a:r>
              <a:endParaRPr b="1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93" name="Picture 5" descr="swlogcol"/>
            <p:cNvPicPr/>
            <p:nvPr/>
          </p:nvPicPr>
          <p:blipFill>
            <a:blip r:embed="rId5"/>
            <a:stretch/>
          </p:blipFill>
          <p:spPr>
            <a:xfrm>
              <a:off x="7437600" y="442800"/>
              <a:ext cx="1338120" cy="7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2521-70BA-47A8-B7F1-1CD75845CAA7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3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3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Image 8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E754-7CF7-496F-BC8D-5606745CF682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1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4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85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87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9548-EB38-42BB-85A4-C3063A9EBEE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8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1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32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34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235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AE88-CB63-4202-A3A6-7F90B81086AB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7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8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35A2-F8A9-49B5-8040-FF8B7298BE2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2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2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0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9AD0-BB11-466F-A1C1-5609454A9882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70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73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74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76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7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6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0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8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8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8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8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8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8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86920" y="1447920"/>
            <a:ext cx="853452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575f"/>
                </a:solidFill>
                <a:latin typeface="Arial Narrow"/>
              </a:rPr>
              <a:t>Instructor’s Guide to Teaching SolidWorks Software Lesson 8</a:t>
            </a:r>
            <a:endParaRPr b="1" lang="en-US" sz="32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11280" y="26668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rly College E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s. Sparnel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62120" y="2667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Hide All the Feature Dimensions for a Selected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51055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feature in the FeatureManager design tree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Hide All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6" name="Picture 6" descr="HideDim"/>
          <p:cNvPicPr/>
          <p:nvPr/>
        </p:nvPicPr>
        <p:blipFill>
          <a:blip r:embed="rId1"/>
          <a:stretch/>
        </p:blipFill>
        <p:spPr>
          <a:xfrm>
            <a:off x="6022800" y="1371600"/>
            <a:ext cx="2130480" cy="458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6" descr="HideDim2"/>
          <p:cNvPicPr/>
          <p:nvPr/>
        </p:nvPicPr>
        <p:blipFill>
          <a:blip r:embed="rId1"/>
          <a:stretch/>
        </p:blipFill>
        <p:spPr>
          <a:xfrm>
            <a:off x="3809880" y="1371600"/>
            <a:ext cx="5257800" cy="429588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Hide Individual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296720"/>
            <a:ext cx="3657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dimension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Hid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22240" y="266760"/>
            <a:ext cx="702648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Display Dimension Nam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3504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Tool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p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Genera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ystem Op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ab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how dimension nam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2" name="Picture 4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876560" cy="38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Rename a Dimension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5486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isplay the dimens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ither double-click the feature to display its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Or, right-click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nnot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older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how Feature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the 70mm diameter dimension, and in the PropertyManager, rename the dimension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knob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then click OK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Note: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“@Sketch2” is automatically added to the dimension nam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5" name="Picture 6" descr="renameDim"/>
          <p:cNvPicPr/>
          <p:nvPr/>
        </p:nvPicPr>
        <p:blipFill>
          <a:blip r:embed="rId1"/>
          <a:stretch/>
        </p:blipFill>
        <p:spPr>
          <a:xfrm>
            <a:off x="6934320" y="1295280"/>
            <a:ext cx="1461960" cy="4776840"/>
          </a:xfrm>
          <a:prstGeom prst="rect">
            <a:avLst/>
          </a:prstGeom>
          <a:ln w="0">
            <a:noFill/>
          </a:ln>
        </p:spPr>
      </p:pic>
      <p:sp>
        <p:nvSpPr>
          <p:cNvPr id="896" name="Oval 8"/>
          <p:cNvSpPr/>
          <p:nvPr/>
        </p:nvSpPr>
        <p:spPr>
          <a:xfrm>
            <a:off x="7010280" y="3505320"/>
            <a:ext cx="1143000" cy="228600"/>
          </a:xfrm>
          <a:prstGeom prst="ellipse">
            <a:avLst/>
          </a:prstGeom>
          <a:noFill/>
          <a:ln w="28440">
            <a:solidFill>
              <a:srgbClr val="55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4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249440" cy="362124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these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114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Height of the box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_heigh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idth of the box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_wid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ameter of the hole in the knob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adius of outside corners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_radiu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Inten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1" name="Picture 4" descr=""/>
          <p:cNvPicPr/>
          <p:nvPr/>
        </p:nvPicPr>
        <p:blipFill>
          <a:blip r:embed="rId1"/>
          <a:stretch/>
        </p:blipFill>
        <p:spPr>
          <a:xfrm>
            <a:off x="4726080" y="1433520"/>
            <a:ext cx="4002120" cy="458928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160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depth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should always be equal to the depth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(the base feature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should always be centered on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mensions alone are not always the best way to capture design int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Valu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command relates dimensions to each other through shared variable nam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f the value of one linked dimension is modified, then all of the linked dimensions are modifi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s excellent for making feature dimensions equal to each oth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is an important tool for capturing design int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Uses for Link Valu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01600" y="1296720"/>
            <a:ext cx="3618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ickness of the square and the two tabs is always equal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width of both slots is always equa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07" name="Group 10"/>
          <p:cNvGrpSpPr/>
          <p:nvPr/>
        </p:nvGrpSpPr>
        <p:grpSpPr>
          <a:xfrm>
            <a:off x="3819600" y="1297080"/>
            <a:ext cx="4943160" cy="4493880"/>
            <a:chOff x="3819600" y="1297080"/>
            <a:chExt cx="4943160" cy="4493880"/>
          </a:xfrm>
        </p:grpSpPr>
        <p:pic>
          <p:nvPicPr>
            <p:cNvPr id="908" name="Picture 4" descr=""/>
            <p:cNvPicPr/>
            <p:nvPr/>
          </p:nvPicPr>
          <p:blipFill>
            <a:blip r:embed="rId1"/>
            <a:stretch/>
          </p:blipFill>
          <p:spPr>
            <a:xfrm>
              <a:off x="3893400" y="1297080"/>
              <a:ext cx="2360880" cy="18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6" descr=""/>
            <p:cNvPicPr/>
            <p:nvPr/>
          </p:nvPicPr>
          <p:blipFill>
            <a:blip r:embed="rId2"/>
            <a:stretch/>
          </p:blipFill>
          <p:spPr>
            <a:xfrm>
              <a:off x="6401880" y="1364760"/>
              <a:ext cx="2360880" cy="160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8" descr=""/>
            <p:cNvPicPr/>
            <p:nvPr/>
          </p:nvPicPr>
          <p:blipFill>
            <a:blip r:embed="rId3"/>
            <a:stretch/>
          </p:blipFill>
          <p:spPr>
            <a:xfrm>
              <a:off x="3819600" y="3475800"/>
              <a:ext cx="2490120" cy="231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Picture 9" descr=""/>
            <p:cNvPicPr/>
            <p:nvPr/>
          </p:nvPicPr>
          <p:blipFill>
            <a:blip r:embed="rId4"/>
            <a:stretch/>
          </p:blipFill>
          <p:spPr>
            <a:xfrm>
              <a:off x="6401880" y="3475800"/>
              <a:ext cx="2357640" cy="2315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79250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 the Depth of the Box to the Depth of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3" name="Picture 4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638600" cy="270540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6" descr="linkvalues"/>
          <p:cNvPicPr/>
          <p:nvPr/>
        </p:nvPicPr>
        <p:blipFill>
          <a:blip r:embed="rId2"/>
          <a:stretch/>
        </p:blipFill>
        <p:spPr>
          <a:xfrm>
            <a:off x="6705720" y="2362320"/>
            <a:ext cx="2047680" cy="24048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6840" y="1296720"/>
            <a:ext cx="3962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play the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on the depth dimension for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select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to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296720"/>
            <a:ext cx="39146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yp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i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Nam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ext box and then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Right-click on the depth dimension for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Link Valu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8" name="Picture 9" descr=""/>
          <p:cNvPicPr/>
          <p:nvPr/>
        </p:nvPicPr>
        <p:blipFill>
          <a:blip r:embed="rId1"/>
          <a:stretch/>
        </p:blipFill>
        <p:spPr>
          <a:xfrm>
            <a:off x="5418000" y="1297080"/>
            <a:ext cx="2617920" cy="23540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11" descr="LinkValues"/>
          <p:cNvPicPr/>
          <p:nvPr/>
        </p:nvPicPr>
        <p:blipFill>
          <a:blip r:embed="rId2"/>
          <a:stretch/>
        </p:blipFill>
        <p:spPr>
          <a:xfrm>
            <a:off x="5410080" y="3886200"/>
            <a:ext cx="2048040" cy="240516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12" descr="sharedValue"/>
          <p:cNvPicPr/>
          <p:nvPr/>
        </p:nvPicPr>
        <p:blipFill>
          <a:blip r:embed="rId3"/>
          <a:stretch/>
        </p:blipFill>
        <p:spPr>
          <a:xfrm>
            <a:off x="4800600" y="1447920"/>
            <a:ext cx="3573360" cy="98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Families of Par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44719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ny times parts come in a variety of siz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is called a family of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 is not efficient to build each version individu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simplify making families of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844" name="Group 10"/>
          <p:cNvGrpSpPr/>
          <p:nvPr/>
        </p:nvGrpSpPr>
        <p:grpSpPr>
          <a:xfrm>
            <a:off x="5562720" y="1676520"/>
            <a:ext cx="3276360" cy="3352320"/>
            <a:chOff x="5562720" y="1676520"/>
            <a:chExt cx="3276360" cy="3352320"/>
          </a:xfrm>
        </p:grpSpPr>
        <p:pic>
          <p:nvPicPr>
            <p:cNvPr id="845" name="Picture 4" descr=""/>
            <p:cNvPicPr/>
            <p:nvPr/>
          </p:nvPicPr>
          <p:blipFill>
            <a:blip r:embed="rId1"/>
            <a:stretch/>
          </p:blipFill>
          <p:spPr>
            <a:xfrm>
              <a:off x="5574240" y="1727640"/>
              <a:ext cx="1520640" cy="15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icture 6" descr=""/>
            <p:cNvPicPr/>
            <p:nvPr/>
          </p:nvPicPr>
          <p:blipFill>
            <a:blip r:embed="rId2"/>
            <a:stretch/>
          </p:blipFill>
          <p:spPr>
            <a:xfrm>
              <a:off x="7049160" y="1676520"/>
              <a:ext cx="1789920" cy="15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8" descr=""/>
            <p:cNvPicPr/>
            <p:nvPr/>
          </p:nvPicPr>
          <p:blipFill>
            <a:blip r:embed="rId3"/>
            <a:stretch/>
          </p:blipFill>
          <p:spPr>
            <a:xfrm>
              <a:off x="5562720" y="3326760"/>
              <a:ext cx="1536480" cy="15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9" descr=""/>
            <p:cNvPicPr/>
            <p:nvPr/>
          </p:nvPicPr>
          <p:blipFill>
            <a:blip r:embed="rId4"/>
            <a:stretch/>
          </p:blipFill>
          <p:spPr>
            <a:xfrm>
              <a:off x="7255440" y="3223800"/>
              <a:ext cx="1402920" cy="180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Link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to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4954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from the list, and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OK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Both dimensions have the same name and valu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4b575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Rebuild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the part to update the geometry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"/>
                <a:ea typeface="Arial"/>
              </a:rPr>
              <a:t>Tip:</a:t>
            </a:r>
            <a:r>
              <a:rPr b="0" lang="en-US" sz="2000" spc="-1" strike="noStrike">
                <a:solidFill>
                  <a:srgbClr val="4b575f"/>
                </a:solidFill>
                <a:latin typeface="Arial"/>
                <a:ea typeface="Arial"/>
              </a:rPr>
              <a:t> Use the CTRL key to select several dimensions at the same time and link them in one step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3" name="Picture 4" descr=""/>
          <p:cNvPicPr/>
          <p:nvPr/>
        </p:nvPicPr>
        <p:blipFill>
          <a:blip r:embed="rId1"/>
          <a:stretch/>
        </p:blipFill>
        <p:spPr>
          <a:xfrm>
            <a:off x="5087880" y="1297080"/>
            <a:ext cx="3278160" cy="2354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8" descr="sharedValue"/>
          <p:cNvPicPr/>
          <p:nvPr/>
        </p:nvPicPr>
        <p:blipFill>
          <a:blip r:embed="rId2"/>
          <a:stretch/>
        </p:blipFill>
        <p:spPr>
          <a:xfrm>
            <a:off x="5181480" y="1371600"/>
            <a:ext cx="3573720" cy="98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late geometry through physical relationships such a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ncentric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radia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idpoin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qua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llinear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inciden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632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ketch Fillet tool automatically creates one radial dimension and 3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Equa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relat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ing the dimension changes all 4 fille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technique is better than having 4 radial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9" name="Picture 4" descr=""/>
          <p:cNvPicPr/>
          <p:nvPr/>
        </p:nvPicPr>
        <p:blipFill>
          <a:blip r:embed="rId1"/>
          <a:stretch/>
        </p:blipFill>
        <p:spPr>
          <a:xfrm>
            <a:off x="5076720" y="1366920"/>
            <a:ext cx="3146400" cy="1915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6" descr=""/>
          <p:cNvPicPr/>
          <p:nvPr/>
        </p:nvPicPr>
        <p:blipFill>
          <a:blip r:embed="rId2"/>
          <a:stretch/>
        </p:blipFill>
        <p:spPr>
          <a:xfrm>
            <a:off x="4916520" y="3803760"/>
            <a:ext cx="3620880" cy="23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Examples of Geometric Rel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31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wo featur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king the circle for the boss Coradial with the edge of the base ensures that the boss will always be the correct size regardless of how the base chang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33" name="Group 13"/>
          <p:cNvGrpSpPr/>
          <p:nvPr/>
        </p:nvGrpSpPr>
        <p:grpSpPr>
          <a:xfrm>
            <a:off x="4038480" y="1143000"/>
            <a:ext cx="4910400" cy="4869000"/>
            <a:chOff x="4038480" y="1143000"/>
            <a:chExt cx="4910400" cy="4869000"/>
          </a:xfrm>
        </p:grpSpPr>
        <p:pic>
          <p:nvPicPr>
            <p:cNvPr id="934" name="Picture 5" descr=""/>
            <p:cNvPicPr/>
            <p:nvPr/>
          </p:nvPicPr>
          <p:blipFill>
            <a:blip r:embed="rId1"/>
            <a:stretch/>
          </p:blipFill>
          <p:spPr>
            <a:xfrm>
              <a:off x="4038480" y="1143000"/>
              <a:ext cx="2471760" cy="24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7" descr=""/>
            <p:cNvPicPr/>
            <p:nvPr/>
          </p:nvPicPr>
          <p:blipFill>
            <a:blip r:embed="rId2"/>
            <a:stretch/>
          </p:blipFill>
          <p:spPr>
            <a:xfrm>
              <a:off x="6553080" y="1219320"/>
              <a:ext cx="2395800" cy="24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9" descr=""/>
            <p:cNvPicPr/>
            <p:nvPr/>
          </p:nvPicPr>
          <p:blipFill>
            <a:blip r:embed="rId3"/>
            <a:stretch/>
          </p:blipFill>
          <p:spPr>
            <a:xfrm>
              <a:off x="4191120" y="4275000"/>
              <a:ext cx="2404800" cy="16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10" descr=""/>
            <p:cNvPicPr/>
            <p:nvPr/>
          </p:nvPicPr>
          <p:blipFill>
            <a:blip r:embed="rId4"/>
            <a:stretch/>
          </p:blipFill>
          <p:spPr>
            <a:xfrm>
              <a:off x="6858000" y="4419720"/>
              <a:ext cx="2057400" cy="15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11" descr=""/>
            <p:cNvPicPr/>
            <p:nvPr/>
          </p:nvPicPr>
          <p:blipFill>
            <a:blip r:embed="rId5"/>
            <a:stretch/>
          </p:blipFill>
          <p:spPr>
            <a:xfrm>
              <a:off x="4724280" y="3809880"/>
              <a:ext cx="3430800" cy="5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Text Box 12"/>
          <p:cNvSpPr/>
          <p:nvPr/>
        </p:nvSpPr>
        <p:spPr>
          <a:xfrm>
            <a:off x="5938920" y="4267080"/>
            <a:ext cx="10652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enter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026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Right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feature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Edit Sketch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     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2" name="Picture 6" descr="EditSketch"/>
          <p:cNvPicPr/>
          <p:nvPr/>
        </p:nvPicPr>
        <p:blipFill>
          <a:blip r:embed="rId1"/>
          <a:stretch/>
        </p:blipFill>
        <p:spPr>
          <a:xfrm>
            <a:off x="4562640" y="1752480"/>
            <a:ext cx="237960" cy="2286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7" descr="EditSketchPM"/>
          <p:cNvPicPr/>
          <p:nvPr/>
        </p:nvPicPr>
        <p:blipFill>
          <a:blip r:embed="rId2"/>
          <a:stretch/>
        </p:blipFill>
        <p:spPr>
          <a:xfrm>
            <a:off x="5791320" y="1371600"/>
            <a:ext cx="2104920" cy="49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838080" y="19008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7102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elete the linear dimens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Notice the circle is blue, indicating it is under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rag the circle to one side. Without dimensions to locate it, it is free to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Centerline       , and sketch a diagonal Centerli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6" name="Picture 11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38280" cy="4362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2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3338280" cy="4362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4" descr="icon_centerline"/>
          <p:cNvPicPr/>
          <p:nvPr/>
        </p:nvPicPr>
        <p:blipFill>
          <a:blip r:embed="rId3"/>
          <a:stretch/>
        </p:blipFill>
        <p:spPr>
          <a:xfrm>
            <a:off x="3220920" y="3962520"/>
            <a:ext cx="284400" cy="2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8" descr="icon_add_relation"/>
          <p:cNvPicPr/>
          <p:nvPr/>
        </p:nvPicPr>
        <p:blipFill>
          <a:blip r:embed="rId1"/>
          <a:stretch/>
        </p:blipFill>
        <p:spPr>
          <a:xfrm>
            <a:off x="3657600" y="1252440"/>
            <a:ext cx="284040" cy="27144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19008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5562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dd Relation 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elect the centerline and the point at the center of the circl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lnSpc>
                <a:spcPct val="85000"/>
              </a:lnSpc>
              <a:spcBef>
                <a:spcPts val="601"/>
              </a:spcBef>
              <a:buClr>
                <a:srgbClr val="1966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37"/>
                </a:solidFill>
                <a:latin typeface="Arial Narrow"/>
                <a:ea typeface="Arial"/>
              </a:rPr>
              <a:t>Note: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If the centerline is still highlighted when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dd Rel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pens, the line automatically appears in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Selected Entiti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list and you do not have to select it agai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If you select the wrong entity, right-click in the graphics area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Clear Selec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2" name="Picture 11" descr="AddRelation2"/>
          <p:cNvPicPr/>
          <p:nvPr/>
        </p:nvPicPr>
        <p:blipFill>
          <a:blip r:embed="rId2"/>
          <a:stretch/>
        </p:blipFill>
        <p:spPr>
          <a:xfrm>
            <a:off x="6553080" y="1295280"/>
            <a:ext cx="1828800" cy="39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4400" y="1296720"/>
            <a:ext cx="3533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Midpoi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and then 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pply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and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Clo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circle will now stay centered on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featur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5" name="Picture 8" descr=""/>
          <p:cNvPicPr/>
          <p:nvPr/>
        </p:nvPicPr>
        <p:blipFill>
          <a:blip r:embed="rId1"/>
          <a:stretch/>
        </p:blipFill>
        <p:spPr>
          <a:xfrm>
            <a:off x="4822920" y="1393920"/>
            <a:ext cx="3808440" cy="466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entering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on the </a:t>
            </a: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Bo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Rebuil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     to exit the sketch and rebuild the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8" name="Picture 6" descr=""/>
          <p:cNvPicPr/>
          <p:nvPr/>
        </p:nvPicPr>
        <p:blipFill>
          <a:blip r:embed="rId1"/>
          <a:stretch/>
        </p:blipFill>
        <p:spPr>
          <a:xfrm>
            <a:off x="5703840" y="1297080"/>
            <a:ext cx="2046240" cy="2354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8" descr="icon_rebuild"/>
          <p:cNvPicPr/>
          <p:nvPr/>
        </p:nvPicPr>
        <p:blipFill>
          <a:blip r:embed="rId2"/>
          <a:stretch/>
        </p:blipFill>
        <p:spPr>
          <a:xfrm>
            <a:off x="3048120" y="1295280"/>
            <a:ext cx="284040" cy="2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6" descr="DesignTable"/>
          <p:cNvPicPr/>
          <p:nvPr/>
        </p:nvPicPr>
        <p:blipFill>
          <a:blip r:embed="rId1"/>
          <a:stretch/>
        </p:blipFill>
        <p:spPr>
          <a:xfrm>
            <a:off x="6705720" y="1371600"/>
            <a:ext cx="1828800" cy="4629240"/>
          </a:xfrm>
          <a:prstGeom prst="rect">
            <a:avLst/>
          </a:prstGeom>
          <a:ln w="0">
            <a:noFill/>
          </a:ln>
        </p:spPr>
      </p:pic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Insert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7326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Position the part in the lower right hand corner of the graphics area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Inser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,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Design Tabl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he PropertyManager appea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1500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elect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  <a:ea typeface="Arial"/>
              </a:rPr>
              <a:t>Auto-cre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option to create a new design table automatically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 Overview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899640" y="1219320"/>
            <a:ext cx="789156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are used to create different configurations of a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at is a Configuration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A configuration is a way to create a family of similar parts within one fi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Each configuration represents one version of the part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automatically change the dimensions and features of an existing part to create multiple configurations. The configurations control the size and shape of a par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18" descr="CreateDT"/>
          <p:cNvPicPr/>
          <p:nvPr/>
        </p:nvPicPr>
        <p:blipFill>
          <a:blip r:embed="rId1"/>
          <a:stretch/>
        </p:blipFill>
        <p:spPr>
          <a:xfrm>
            <a:off x="2438280" y="1295280"/>
            <a:ext cx="6363000" cy="490716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79440"/>
            <a:ext cx="8305920" cy="4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65" name="Picture 16" descr="dtDims"/>
          <p:cNvPicPr/>
          <p:nvPr/>
        </p:nvPicPr>
        <p:blipFill>
          <a:blip r:embed="rId2"/>
          <a:stretch/>
        </p:blipFill>
        <p:spPr>
          <a:xfrm>
            <a:off x="457200" y="1066680"/>
            <a:ext cx="26002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Excel worksheet is displayed in the part document window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xcel toolbars replace the SolidWorks toolba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y default, the first configuration is named Default. You can (and should) change this to something more meaningfu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16" descr="PICT0133"/>
          <p:cNvPicPr/>
          <p:nvPr/>
        </p:nvPicPr>
        <p:blipFill>
          <a:blip r:embed="rId1"/>
          <a:stretch/>
        </p:blipFill>
        <p:spPr>
          <a:xfrm>
            <a:off x="301680" y="2211480"/>
            <a:ext cx="8537400" cy="20746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view of a Design Table’s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0" name="Text Box 4"/>
          <p:cNvSpPr/>
          <p:nvPr/>
        </p:nvSpPr>
        <p:spPr>
          <a:xfrm>
            <a:off x="3042720" y="4724280"/>
            <a:ext cx="29383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Configuration name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go in this column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1" name="Text Box 5"/>
          <p:cNvSpPr/>
          <p:nvPr/>
        </p:nvSpPr>
        <p:spPr>
          <a:xfrm>
            <a:off x="3865320" y="1295280"/>
            <a:ext cx="4258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Dimension and/or Feature names</a:t>
            </a:r>
            <a:br>
              <a:rPr sz="1800"/>
            </a:b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or special keywords go in this row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2" name="Text Box 6"/>
          <p:cNvSpPr/>
          <p:nvPr/>
        </p:nvSpPr>
        <p:spPr>
          <a:xfrm>
            <a:off x="6471720" y="4800600"/>
            <a:ext cx="234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Values go here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2971440" y="1447920"/>
            <a:ext cx="914400" cy="1447560"/>
            <a:chOff x="2971440" y="1447920"/>
            <a:chExt cx="914400" cy="1447560"/>
          </a:xfrm>
        </p:grpSpPr>
        <p:sp>
          <p:nvSpPr>
            <p:cNvPr id="974" name="Line 8"/>
            <p:cNvSpPr/>
            <p:nvPr/>
          </p:nvSpPr>
          <p:spPr>
            <a:xfrm flipH="1">
              <a:off x="3580920" y="1447920"/>
              <a:ext cx="3049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5" name="Line 9"/>
            <p:cNvSpPr/>
            <p:nvPr/>
          </p:nvSpPr>
          <p:spPr>
            <a:xfrm flipH="1">
              <a:off x="2971440" y="1447920"/>
              <a:ext cx="609480" cy="144756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6" name="Group 10"/>
          <p:cNvGrpSpPr/>
          <p:nvPr/>
        </p:nvGrpSpPr>
        <p:grpSpPr>
          <a:xfrm>
            <a:off x="1752480" y="4038120"/>
            <a:ext cx="1524240" cy="838800"/>
            <a:chOff x="1752480" y="4038120"/>
            <a:chExt cx="1524240" cy="838800"/>
          </a:xfrm>
        </p:grpSpPr>
        <p:sp>
          <p:nvSpPr>
            <p:cNvPr id="977" name="Line 11"/>
            <p:cNvSpPr/>
            <p:nvPr/>
          </p:nvSpPr>
          <p:spPr>
            <a:xfrm flipH="1">
              <a:off x="2743200" y="487692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8" name="Line 12"/>
            <p:cNvSpPr/>
            <p:nvPr/>
          </p:nvSpPr>
          <p:spPr>
            <a:xfrm flipH="1" flipV="1">
              <a:off x="1752480" y="4038120"/>
              <a:ext cx="99072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9" name="Group 13"/>
          <p:cNvGrpSpPr/>
          <p:nvPr/>
        </p:nvGrpSpPr>
        <p:grpSpPr>
          <a:xfrm>
            <a:off x="5181480" y="4114800"/>
            <a:ext cx="1524240" cy="838080"/>
            <a:chOff x="5181480" y="4114800"/>
            <a:chExt cx="1524240" cy="838080"/>
          </a:xfrm>
        </p:grpSpPr>
        <p:sp>
          <p:nvSpPr>
            <p:cNvPr id="980" name="Line 14"/>
            <p:cNvSpPr/>
            <p:nvPr/>
          </p:nvSpPr>
          <p:spPr>
            <a:xfrm flipH="1">
              <a:off x="6172200" y="495288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1" name="Line 15"/>
            <p:cNvSpPr/>
            <p:nvPr/>
          </p:nvSpPr>
          <p:spPr>
            <a:xfrm flipH="1" flipV="1">
              <a:off x="5181480" y="4114800"/>
              <a:ext cx="990720" cy="8380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380880" y="1219320"/>
            <a:ext cx="5486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_wid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dimensi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full dimension name is inserted into cell B2. The dimension value is inserted into cell B3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next cell, C2, is automatically selected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box_heigh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dimens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4" name="Picture 7" descr="5TABFIR"/>
          <p:cNvPicPr/>
          <p:nvPr/>
        </p:nvPicPr>
        <p:blipFill>
          <a:blip r:embed="rId1"/>
          <a:stretch/>
        </p:blipFill>
        <p:spPr>
          <a:xfrm>
            <a:off x="6019920" y="2438280"/>
            <a:ext cx="2504880" cy="11811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8" descr="5FINTAB2"/>
          <p:cNvPicPr/>
          <p:nvPr/>
        </p:nvPicPr>
        <p:blipFill>
          <a:blip r:embed="rId2"/>
          <a:stretch/>
        </p:blipFill>
        <p:spPr>
          <a:xfrm>
            <a:off x="5791320" y="4495680"/>
            <a:ext cx="28573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peat this process for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dia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_radiu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Dept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915840" indent="-457200">
              <a:spcBef>
                <a:spcPts val="499"/>
              </a:spcBef>
              <a:buClr>
                <a:srgbClr val="19663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 Narrow"/>
              </a:rPr>
              <a:t>Note: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 Since the depth dimensions of the Knob and the Box are linked together, you only need one of them in the design tab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1" marL="9158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196637"/>
                </a:solidFill>
                <a:latin typeface="Arial Narrow"/>
              </a:rPr>
              <a:t>Excel tip: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 Dimension names tend to be very long. Use the Excel command Format, Cells, and click Wrap Text on the Alignment tab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8" name="Picture 5" descr="5FINTAB3"/>
          <p:cNvPicPr/>
          <p:nvPr/>
        </p:nvPicPr>
        <p:blipFill>
          <a:blip r:embed="rId1"/>
          <a:stretch/>
        </p:blipFill>
        <p:spPr>
          <a:xfrm>
            <a:off x="1676520" y="3048120"/>
            <a:ext cx="6024600" cy="1477800"/>
          </a:xfrm>
          <a:prstGeom prst="rect">
            <a:avLst/>
          </a:prstGeom>
          <a:ln w="38160">
            <a:solidFill>
              <a:srgbClr val="f9c85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Inserting a New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99640" y="1371240"/>
            <a:ext cx="789156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nter new configuration names in column A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Replace Default with blk1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806400" indent="-34920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Fill cells A4 through A6 with blk2, blk3, and blk4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Fill in the dimension values as shown below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1" name="Picture 5" descr="5FINTAB4"/>
          <p:cNvPicPr/>
          <p:nvPr/>
        </p:nvPicPr>
        <p:blipFill>
          <a:blip r:embed="rId1"/>
          <a:stretch/>
        </p:blipFill>
        <p:spPr>
          <a:xfrm>
            <a:off x="1143000" y="3581280"/>
            <a:ext cx="6627960" cy="1798920"/>
          </a:xfrm>
          <a:prstGeom prst="rect">
            <a:avLst/>
          </a:prstGeom>
          <a:ln w="38160">
            <a:solidFill>
              <a:srgbClr val="f9c85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lose the Excel Workshee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837720" y="1296720"/>
            <a:ext cx="76201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5000"/>
              </a:lnSpc>
              <a:spcBef>
                <a:spcPts val="1500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in the graphics area outside the workshe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system builds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 the configuratio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OK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Design Table i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embedded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tored in the part document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design table icon appears in the FeatureManag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Save the part docum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4" name="Picture 7" descr="DT_Icon"/>
          <p:cNvPicPr/>
          <p:nvPr/>
        </p:nvPicPr>
        <p:blipFill>
          <a:blip r:embed="rId1"/>
          <a:stretch/>
        </p:blipFill>
        <p:spPr>
          <a:xfrm>
            <a:off x="3276720" y="3429000"/>
            <a:ext cx="914400" cy="200160"/>
          </a:xfrm>
          <a:prstGeom prst="rect">
            <a:avLst/>
          </a:prstGeom>
          <a:ln w="28440">
            <a:solidFill>
              <a:srgbClr val="f9c852"/>
            </a:solidFill>
            <a:miter/>
          </a:ln>
        </p:spPr>
      </p:pic>
      <p:pic>
        <p:nvPicPr>
          <p:cNvPr id="995" name="Picture 8" descr="DTNewConfig"/>
          <p:cNvPicPr/>
          <p:nvPr/>
        </p:nvPicPr>
        <p:blipFill>
          <a:blip r:embed="rId2"/>
          <a:stretch/>
        </p:blipFill>
        <p:spPr>
          <a:xfrm>
            <a:off x="4648320" y="1905120"/>
            <a:ext cx="33145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View Part Configur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899640" y="1294920"/>
            <a:ext cx="789156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lick the Configuratio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Manager tab        at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op of the FeatureManager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window. The list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onfigurations is display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Double-click each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configur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601"/>
              </a:spcBef>
              <a:buClr>
                <a:srgbClr val="4b575f"/>
              </a:buClr>
              <a:buFont typeface="Arial Narrow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8" name="Picture 12" descr="tree-Configs"/>
          <p:cNvPicPr/>
          <p:nvPr/>
        </p:nvPicPr>
        <p:blipFill>
          <a:blip r:embed="rId1"/>
          <a:stretch/>
        </p:blipFill>
        <p:spPr>
          <a:xfrm>
            <a:off x="4724280" y="1371600"/>
            <a:ext cx="2286000" cy="444168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1" descr="ConfigManTab"/>
          <p:cNvPicPr/>
          <p:nvPr/>
        </p:nvPicPr>
        <p:blipFill>
          <a:blip r:embed="rId2"/>
          <a:stretch/>
        </p:blipFill>
        <p:spPr>
          <a:xfrm>
            <a:off x="3017880" y="1676520"/>
            <a:ext cx="411120" cy="35388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0" descr="Configs"/>
          <p:cNvPicPr/>
          <p:nvPr/>
        </p:nvPicPr>
        <p:blipFill>
          <a:blip r:embed="rId3"/>
          <a:stretch/>
        </p:blipFill>
        <p:spPr>
          <a:xfrm>
            <a:off x="7108920" y="1371600"/>
            <a:ext cx="18828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Viewing Part Configurat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899640" y="1066680"/>
            <a:ext cx="78915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  <a:ea typeface="Arial"/>
              </a:rPr>
              <a:t>The part is automatically rebuilt using the dimension values from the design tabl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1003" name="Picture 8" descr="BLK1"/>
          <p:cNvPicPr/>
          <p:nvPr/>
        </p:nvPicPr>
        <p:blipFill>
          <a:blip r:embed="rId1"/>
          <a:stretch/>
        </p:blipFill>
        <p:spPr>
          <a:xfrm>
            <a:off x="221148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9" descr="BLK4"/>
          <p:cNvPicPr/>
          <p:nvPr/>
        </p:nvPicPr>
        <p:blipFill>
          <a:blip r:embed="rId2"/>
          <a:stretch/>
        </p:blipFill>
        <p:spPr>
          <a:xfrm>
            <a:off x="510840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0" descr="BLK2"/>
          <p:cNvPicPr/>
          <p:nvPr/>
        </p:nvPicPr>
        <p:blipFill>
          <a:blip r:embed="rId3"/>
          <a:stretch/>
        </p:blipFill>
        <p:spPr>
          <a:xfrm>
            <a:off x="2055960" y="4191120"/>
            <a:ext cx="2724120" cy="228420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1" descr="BLK3"/>
          <p:cNvPicPr/>
          <p:nvPr/>
        </p:nvPicPr>
        <p:blipFill>
          <a:blip r:embed="rId4"/>
          <a:stretch/>
        </p:blipFill>
        <p:spPr>
          <a:xfrm>
            <a:off x="5410080" y="4191120"/>
            <a:ext cx="178272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 Overview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5654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can control the state of a featur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tate of a feature can b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uppress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or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unsuppress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(also called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resolved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). A suppressed feature is not rebuilt or display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esign Tables requires Microsoft Excel applica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53" name="Picture 4" descr=""/>
          <p:cNvPicPr/>
          <p:nvPr/>
        </p:nvPicPr>
        <p:blipFill>
          <a:blip r:embed="rId1"/>
          <a:stretch/>
        </p:blipFill>
        <p:spPr>
          <a:xfrm>
            <a:off x="6413400" y="990720"/>
            <a:ext cx="2281320" cy="23256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6" descr=""/>
          <p:cNvPicPr/>
          <p:nvPr/>
        </p:nvPicPr>
        <p:blipFill>
          <a:blip r:embed="rId2"/>
          <a:stretch/>
        </p:blipFill>
        <p:spPr>
          <a:xfrm>
            <a:off x="6413400" y="3457440"/>
            <a:ext cx="2273400" cy="236088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8"/>
          <p:cNvSpPr/>
          <p:nvPr/>
        </p:nvSpPr>
        <p:spPr>
          <a:xfrm>
            <a:off x="4951080" y="5865840"/>
            <a:ext cx="29581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6637"/>
                </a:solidFill>
                <a:latin typeface="Arial"/>
              </a:rPr>
              <a:t>Center hole suppressed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sign Tables Requi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637"/>
                </a:solidFill>
                <a:latin typeface="Arial"/>
                <a:ea typeface="Arial"/>
              </a:rPr>
              <a:t>Tip:</a:t>
            </a:r>
            <a:r>
              <a:rPr b="0" lang="en-US" sz="2000" spc="-1" strike="noStrike">
                <a:solidFill>
                  <a:srgbClr val="4b575f"/>
                </a:solidFill>
                <a:latin typeface="Arial"/>
                <a:ea typeface="Arial"/>
              </a:rPr>
              <a:t>   Rename features and dimensions before creating a  design tabl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58" name="Picture 4" descr=""/>
          <p:cNvPicPr/>
          <p:nvPr/>
        </p:nvPicPr>
        <p:blipFill>
          <a:blip r:embed="rId1"/>
          <a:stretch/>
        </p:blipFill>
        <p:spPr>
          <a:xfrm>
            <a:off x="438120" y="2143080"/>
            <a:ext cx="7862760" cy="22860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6"/>
          <p:cNvSpPr/>
          <p:nvPr/>
        </p:nvSpPr>
        <p:spPr>
          <a:xfrm>
            <a:off x="3042000" y="4724280"/>
            <a:ext cx="2152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Configuration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Text Box 7"/>
          <p:cNvSpPr/>
          <p:nvPr/>
        </p:nvSpPr>
        <p:spPr>
          <a:xfrm>
            <a:off x="3652560" y="1295280"/>
            <a:ext cx="4258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Dimension and/or Feature names</a:t>
            </a:r>
            <a:br>
              <a:rPr sz="1800"/>
            </a:b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or special keyword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1" name="Text Box 8"/>
          <p:cNvSpPr/>
          <p:nvPr/>
        </p:nvSpPr>
        <p:spPr>
          <a:xfrm>
            <a:off x="6625080" y="4724280"/>
            <a:ext cx="1387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Value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62" name="Group 11"/>
          <p:cNvGrpSpPr/>
          <p:nvPr/>
        </p:nvGrpSpPr>
        <p:grpSpPr>
          <a:xfrm>
            <a:off x="2971440" y="1447920"/>
            <a:ext cx="914400" cy="1447560"/>
            <a:chOff x="2971440" y="1447920"/>
            <a:chExt cx="914400" cy="1447560"/>
          </a:xfrm>
        </p:grpSpPr>
        <p:sp>
          <p:nvSpPr>
            <p:cNvPr id="863" name="Line 9"/>
            <p:cNvSpPr/>
            <p:nvPr/>
          </p:nvSpPr>
          <p:spPr>
            <a:xfrm flipH="1">
              <a:off x="3580920" y="1447920"/>
              <a:ext cx="3049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4" name="Line 10"/>
            <p:cNvSpPr/>
            <p:nvPr/>
          </p:nvSpPr>
          <p:spPr>
            <a:xfrm flipH="1">
              <a:off x="2971440" y="1447920"/>
              <a:ext cx="609480" cy="144756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65" name="Group 16"/>
          <p:cNvGrpSpPr/>
          <p:nvPr/>
        </p:nvGrpSpPr>
        <p:grpSpPr>
          <a:xfrm>
            <a:off x="1752480" y="4038120"/>
            <a:ext cx="1524240" cy="838800"/>
            <a:chOff x="1752480" y="4038120"/>
            <a:chExt cx="1524240" cy="838800"/>
          </a:xfrm>
        </p:grpSpPr>
        <p:sp>
          <p:nvSpPr>
            <p:cNvPr id="866" name="Line 14"/>
            <p:cNvSpPr/>
            <p:nvPr/>
          </p:nvSpPr>
          <p:spPr>
            <a:xfrm flipH="1">
              <a:off x="2743200" y="4876920"/>
              <a:ext cx="5335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7" name="Line 15"/>
            <p:cNvSpPr/>
            <p:nvPr/>
          </p:nvSpPr>
          <p:spPr>
            <a:xfrm flipH="1" flipV="1">
              <a:off x="1752480" y="4038120"/>
              <a:ext cx="99072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68" name="Group 17"/>
          <p:cNvGrpSpPr/>
          <p:nvPr/>
        </p:nvGrpSpPr>
        <p:grpSpPr>
          <a:xfrm>
            <a:off x="5333760" y="4038120"/>
            <a:ext cx="1523520" cy="838800"/>
            <a:chOff x="5333760" y="4038120"/>
            <a:chExt cx="1523520" cy="838800"/>
          </a:xfrm>
        </p:grpSpPr>
        <p:sp>
          <p:nvSpPr>
            <p:cNvPr id="869" name="Line 18"/>
            <p:cNvSpPr/>
            <p:nvPr/>
          </p:nvSpPr>
          <p:spPr>
            <a:xfrm flipH="1">
              <a:off x="6324120" y="4876920"/>
              <a:ext cx="53316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0" name="Line 19"/>
            <p:cNvSpPr/>
            <p:nvPr/>
          </p:nvSpPr>
          <p:spPr>
            <a:xfrm flipH="1" flipV="1">
              <a:off x="5333760" y="4038120"/>
              <a:ext cx="990360" cy="8384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695016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Features and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eature and Dimension names us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a Design Table should be renam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o better describe their function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ich is easier to understand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D1@Cut-Extrude1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Width@Oval_Slot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3" name="Picture 4" descr=""/>
          <p:cNvPicPr/>
          <p:nvPr/>
        </p:nvPicPr>
        <p:blipFill>
          <a:blip r:embed="rId1"/>
          <a:stretch/>
        </p:blipFill>
        <p:spPr>
          <a:xfrm>
            <a:off x="5262480" y="1143000"/>
            <a:ext cx="3348000" cy="48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Rename a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5575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-pause-click o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Extrude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n the FeatureManager design tree (do not double-click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ip: Instead of the click-pause-click technique, you can select the feature, and then press the function key F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eature name is highlighted in blue, ready to be edit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ype the new name,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, and press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Ente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6" name="Picture 6" descr="RenameFeature"/>
          <p:cNvPicPr/>
          <p:nvPr/>
        </p:nvPicPr>
        <p:blipFill>
          <a:blip r:embed="rId1"/>
          <a:stretch/>
        </p:blipFill>
        <p:spPr>
          <a:xfrm>
            <a:off x="6553080" y="1371600"/>
            <a:ext cx="2184480" cy="407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Rename the Other Features Used in the Design Tabl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5334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Extrude2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ut-Extrude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Hole_in_knob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enam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Fillet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to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Outside_corner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9" name="Picture 8" descr="RenameFeature2"/>
          <p:cNvPicPr/>
          <p:nvPr/>
        </p:nvPicPr>
        <p:blipFill>
          <a:blip r:embed="rId1"/>
          <a:stretch/>
        </p:blipFill>
        <p:spPr>
          <a:xfrm>
            <a:off x="6553080" y="1371600"/>
            <a:ext cx="2194200" cy="40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266760"/>
            <a:ext cx="695016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Display Feature Dimension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296720"/>
            <a:ext cx="4952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ight-click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Annotat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older, and select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how Feature Dimension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from the shortcut menu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2" name="Picture 6" descr=""/>
          <p:cNvPicPr/>
          <p:nvPr/>
        </p:nvPicPr>
        <p:blipFill>
          <a:blip r:embed="rId1"/>
          <a:stretch/>
        </p:blipFill>
        <p:spPr>
          <a:xfrm>
            <a:off x="2514600" y="3809880"/>
            <a:ext cx="2643120" cy="23544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8" descr="DisplayDims"/>
          <p:cNvPicPr/>
          <p:nvPr/>
        </p:nvPicPr>
        <p:blipFill>
          <a:blip r:embed="rId2"/>
          <a:stretch/>
        </p:blipFill>
        <p:spPr>
          <a:xfrm>
            <a:off x="5902200" y="1066680"/>
            <a:ext cx="217512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0:12:14Z</dcterms:created>
  <dc:creator>jmatsumoto</dc:creator>
  <dc:description/>
  <dc:language>en-US</dc:language>
  <cp:lastModifiedBy>ECES21</cp:lastModifiedBy>
  <dcterms:modified xsi:type="dcterms:W3CDTF">2013-10-29T18:58:20Z</dcterms:modified>
  <cp:revision>70</cp:revision>
  <dc:subject/>
  <dc:title>Presentation Title</dc:title>
</cp:coreProperties>
</file>